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056-C21A-443F-9F7A-9E2BD0D4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77E-7BB6-486C-A6B5-14F5752B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92C-7100-44C4-A8F1-58D55368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5AE-0541-43B3-9D1B-5008B27C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F24-8747-43A3-B3A7-BCE3FDC1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B46-F953-46CB-BA75-C6F9D49B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EC0-9F67-45A7-8F74-29FCF759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C17-ACC2-45E2-9090-26C68E33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BEF-BBDB-4BAB-9B0C-D5E5CBC6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4AC-E589-4F75-BA3F-01BCF5B5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33B-917B-4569-AA4A-D20E45C6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DE5-2F32-476B-AAE7-D184BB47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A237-1B63-42E4-9AC8-326C21DE2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0"/>
            <a:ext cx="708660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Юношествот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ботата е най-доброто възпитателно средство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JE00066" descr=""/>
          <p:cNvPicPr/>
          <p:nvPr/>
        </p:nvPicPr>
        <p:blipFill>
          <a:blip r:embed="rId1"/>
          <a:stretch/>
        </p:blipFill>
        <p:spPr>
          <a:xfrm>
            <a:off x="2743200" y="3962520"/>
            <a:ext cx="36957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к да изградим трудови навици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учавайте децата във всички дейности,свързани с поддържане на дом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сърчавайте ги в дейности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ито им доставят удоволств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решавайте им невинни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йности извън дом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JZ00001" descr=""/>
          <p:cNvPicPr/>
          <p:nvPr/>
        </p:nvPicPr>
        <p:blipFill>
          <a:blip r:embed="rId1"/>
          <a:stretch/>
        </p:blipFill>
        <p:spPr>
          <a:xfrm>
            <a:off x="6703920" y="4265640"/>
            <a:ext cx="2440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к да създадем интерес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ъм работата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 всяка дейност поставете мотивация, която представлява интерес за юношат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работете писмен договор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игурете начин за възнаграждение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602400" y="2666880"/>
            <a:ext cx="257796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ъвети за запазване добри взаимоотношения 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важавайте неговата личнос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правете дома си привлекателе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ъдете деликатни в надзора с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важете неговото желание за самостоятелнос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SR50019" descr=""/>
          <p:cNvPicPr/>
          <p:nvPr/>
        </p:nvPicPr>
        <p:blipFill>
          <a:blip r:embed="rId1"/>
          <a:stretch/>
        </p:blipFill>
        <p:spPr>
          <a:xfrm>
            <a:off x="6621480" y="4761000"/>
            <a:ext cx="25225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ъвети за запазване добри взаимоотношения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ъздавайте ведра атмосфер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ворете за променит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имавайте в това, което детето ви говор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ъдете му модел за щастливо семейств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JE50066" descr=""/>
          <p:cNvPicPr/>
          <p:nvPr/>
        </p:nvPicPr>
        <p:blipFill>
          <a:blip r:embed="rId1"/>
          <a:stretch/>
        </p:blipFill>
        <p:spPr>
          <a:xfrm>
            <a:off x="7115040" y="2801880"/>
            <a:ext cx="202896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Юношите имат привилегии,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а родителите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имат права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CJZ50027" descr=""/>
          <p:cNvPicPr/>
          <p:nvPr/>
        </p:nvPicPr>
        <p:blipFill>
          <a:blip r:embed="rId1"/>
          <a:stretch/>
        </p:blipFill>
        <p:spPr>
          <a:xfrm>
            <a:off x="6026040" y="4441680"/>
            <a:ext cx="3117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Родителите имат право: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3124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 разубеждават юношата при избиране на недобри, или съмнителни приятел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 отказват ползването на семейната кола при основателни причин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JE50086" descr=""/>
          <p:cNvPicPr/>
          <p:nvPr/>
        </p:nvPicPr>
        <p:blipFill>
          <a:blip r:embed="rId1"/>
          <a:stretch/>
        </p:blipFill>
        <p:spPr>
          <a:xfrm>
            <a:off x="6291360" y="4106880"/>
            <a:ext cx="28526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одителите имат </a:t>
            </a:r>
            <a:br>
              <a:rPr sz="3600"/>
            </a:b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аво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 контролират броя и продължителността на телефонните разговори, които те трябва да платят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 лишават юношата от привилегии, които той не е заслужил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 очакват възможните най-добри резултати в училище и успешното му завършван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VQ00048" descr=""/>
          <p:cNvPicPr/>
          <p:nvPr/>
        </p:nvPicPr>
        <p:blipFill>
          <a:blip r:embed="rId1"/>
          <a:stretch/>
        </p:blipFill>
        <p:spPr>
          <a:xfrm>
            <a:off x="6154560" y="304920"/>
            <a:ext cx="29894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Родителите имат право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 поставят разумни стандарти относно външния вид на юношат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 контролират вида и силата на музиката, която се слуша в дом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 поставят правила, отнасящи се до срещит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IY50081" descr=""/>
          <p:cNvPicPr/>
          <p:nvPr/>
        </p:nvPicPr>
        <p:blipFill>
          <a:blip r:embed="rId1"/>
          <a:stretch/>
        </p:blipFill>
        <p:spPr>
          <a:xfrm>
            <a:off x="7480440" y="4479840"/>
            <a:ext cx="16635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сигурете възможност за групови срещи в домовете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и, където юношите да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бъдат под погледа на родители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JW00039" descr=""/>
          <p:cNvPicPr/>
          <p:nvPr/>
        </p:nvPicPr>
        <p:blipFill>
          <a:blip r:embed="rId1"/>
          <a:stretch/>
        </p:blipFill>
        <p:spPr>
          <a:xfrm>
            <a:off x="6446880" y="4640400"/>
            <a:ext cx="26971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собености на юношеската възрас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Юношеството е критичен период и за родителите, и за децат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Юношите не са вече деца, но те все още не са и зрели хор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олната среда способства за по-ранно започване на юношеския период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JY00069" descr=""/>
          <p:cNvPicPr/>
          <p:nvPr/>
        </p:nvPicPr>
        <p:blipFill>
          <a:blip r:embed="rId1"/>
          <a:stretch/>
        </p:blipFill>
        <p:spPr>
          <a:xfrm>
            <a:off x="7013520" y="4125960"/>
            <a:ext cx="21304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819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Говорете открито и искрено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 децата си по въпросите на половото поведение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и срещите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VV00024" descr=""/>
          <p:cNvPicPr/>
          <p:nvPr/>
        </p:nvPicPr>
        <p:blipFill>
          <a:blip r:embed="rId1"/>
          <a:stretch/>
        </p:blipFill>
        <p:spPr>
          <a:xfrm>
            <a:off x="6346800" y="3997440"/>
            <a:ext cx="27972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Молете се на Бога за вашите деца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TT50126" descr=""/>
          <p:cNvPicPr/>
          <p:nvPr/>
        </p:nvPicPr>
        <p:blipFill>
          <a:blip r:embed="rId1"/>
          <a:stretch/>
        </p:blipFill>
        <p:spPr>
          <a:xfrm>
            <a:off x="3733920" y="4578480"/>
            <a:ext cx="18730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олкото по-трудно е детето, толкова повече се нуждае от вашата любов и грижа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VQ00056" descr=""/>
          <p:cNvPicPr/>
          <p:nvPr/>
        </p:nvPicPr>
        <p:blipFill>
          <a:blip r:embed="rId1"/>
          <a:stretch/>
        </p:blipFill>
        <p:spPr>
          <a:xfrm>
            <a:off x="6045120" y="4775040"/>
            <a:ext cx="30988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адежда за обезсърчени родители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ри юноши на добри родители не им се покоряват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ва, което сте направили когато детето е било малко, някога ще даде плодов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IY50318" descr=""/>
          <p:cNvPicPr/>
          <p:nvPr/>
        </p:nvPicPr>
        <p:blipFill>
          <a:blip r:embed="rId1"/>
          <a:stretch/>
        </p:blipFill>
        <p:spPr>
          <a:xfrm>
            <a:off x="6648480" y="5259240"/>
            <a:ext cx="24955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Предай на Господа пътя си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и уповай на Него,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Той ще извърши очакването ти.”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5000" y="541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. 37: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CIY50127" descr=""/>
          <p:cNvPicPr/>
          <p:nvPr/>
        </p:nvPicPr>
        <p:blipFill>
          <a:blip r:embed="rId1"/>
          <a:stretch/>
        </p:blipFill>
        <p:spPr>
          <a:xfrm>
            <a:off x="0" y="4280040"/>
            <a:ext cx="25779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оспод обича вашето дете с вечна любов. Неговият син умря, за да спаси вашия син, вашата дъщеря. Може ли детето ви да види чрез вас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е Бог го обича?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13720" y="4853160"/>
            <a:ext cx="23302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кво включва юношеския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ротест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хвърляне на авторитети, норми и контрол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тестът е ненормален, когато юношата ги отхвърля тоталн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ложителното в протеста е, че той съдейства за оформяне самостоятелна личност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Никога не оттегляйте любовта си от детето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тъй както Господ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никога не оттегля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любовта си от нас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PT00023" descr=""/>
          <p:cNvPicPr/>
          <p:nvPr/>
        </p:nvPicPr>
        <p:blipFill>
          <a:blip r:embed="rId1"/>
          <a:stretch/>
        </p:blipFill>
        <p:spPr>
          <a:xfrm>
            <a:off x="6638760" y="4917960"/>
            <a:ext cx="25052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к да се справим с юношеския протест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 прекъсвайте връзкат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говаряйте с детет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ко имате пропуски в реакциите и думите си, извинете му с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JU50098" descr=""/>
          <p:cNvPicPr/>
          <p:nvPr/>
        </p:nvPicPr>
        <p:blipFill>
          <a:blip r:embed="rId1"/>
          <a:stretch/>
        </p:blipFill>
        <p:spPr>
          <a:xfrm>
            <a:off x="6629400" y="3352680"/>
            <a:ext cx="21016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к да се справим с юношеския протест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3048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точнете заедно границите на поведение, което вие бихте одобрил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кажете на детето, че го обичате и сте загрижени за него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JZ50052" descr=""/>
          <p:cNvPicPr/>
          <p:nvPr/>
        </p:nvPicPr>
        <p:blipFill>
          <a:blip r:embed="rId1"/>
          <a:stretch/>
        </p:blipFill>
        <p:spPr>
          <a:xfrm>
            <a:off x="6602400" y="4233960"/>
            <a:ext cx="25416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к да предотвратим кризата по време на юношеството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бсолютният контрол не помаг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дикалните мерки предизвикват остра контрареакция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ходът “ваксиниране” е ефективен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JZ50010" descr=""/>
          <p:cNvPicPr/>
          <p:nvPr/>
        </p:nvPicPr>
        <p:blipFill>
          <a:blip r:embed="rId1"/>
          <a:stretch/>
        </p:blipFill>
        <p:spPr>
          <a:xfrm>
            <a:off x="7516800" y="3038400"/>
            <a:ext cx="16272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к да наказваме юношата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35053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икога с бой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Лишаване от някои привилигии е подходящо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IW50514" descr=""/>
          <p:cNvPicPr/>
          <p:nvPr/>
        </p:nvPicPr>
        <p:blipFill>
          <a:blip r:embed="rId1"/>
          <a:stretch/>
        </p:blipFill>
        <p:spPr>
          <a:xfrm>
            <a:off x="6969240" y="3197160"/>
            <a:ext cx="21747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e5fec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1272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тигнатото единодушие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отношение правилата 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ледиците от нарушаването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 е предпоставка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 коректн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отношения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IW50181" descr=""/>
          <p:cNvPicPr/>
          <p:nvPr/>
        </p:nvPicPr>
        <p:blipFill>
          <a:blip r:embed="rId1"/>
          <a:stretch/>
        </p:blipFill>
        <p:spPr>
          <a:xfrm>
            <a:off x="6740640" y="3770280"/>
            <a:ext cx="24033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11:58:58Z</dcterms:created>
  <dc:creator>Pacific Health</dc:creator>
  <dc:description/>
  <dc:language>en-US</dc:language>
  <cp:lastModifiedBy>Borislav Ortov</cp:lastModifiedBy>
  <dcterms:modified xsi:type="dcterms:W3CDTF">2005-04-16T21:47:46Z</dcterms:modified>
  <cp:revision>10</cp:revision>
  <dc:subject/>
  <dc:title>No Slide Title</dc:title>
</cp:coreProperties>
</file>